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434960" y="3580920"/>
            <a:ext cx="10528560" cy="121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34960" y="5245200"/>
            <a:ext cx="10528560" cy="262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34960" y="7873560"/>
            <a:ext cx="10528560" cy="161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33048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649440" indent="-330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100404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35828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712160" indent="-330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712160" indent="-330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712160" indent="-330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041480" y="2768760"/>
            <a:ext cx="533376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298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586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9068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22652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54656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367920" y="9016560"/>
            <a:ext cx="10845720" cy="44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67920" y="9016560"/>
            <a:ext cx="10845720" cy="44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367920" y="9016560"/>
            <a:ext cx="10845720" cy="44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367920" y="9016560"/>
            <a:ext cx="10845720" cy="44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1434960" y="8115120"/>
            <a:ext cx="10846080" cy="74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277920" y="89028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1434960" y="7099200"/>
            <a:ext cx="1084608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1434960" y="8115120"/>
            <a:ext cx="10846080" cy="74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277920" y="89028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1434960" y="7099200"/>
            <a:ext cx="1084608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67920" y="9016560"/>
            <a:ext cx="10845720" cy="44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5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0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33048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649440" indent="-330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100404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358280" indent="-330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712160" indent="-330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712160" indent="-330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712160" indent="-330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760"/>
            <a:ext cx="533376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298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586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9068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22652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54656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049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049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9240"/>
            <a:ext cx="5333760" cy="288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9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760"/>
            <a:ext cx="533412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298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5864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90684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22652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546560" indent="-2984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546560" indent="-29844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323640" indent="-323640">
              <a:spcBef>
                <a:spcPts val="4901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23280">
              <a:spcBef>
                <a:spcPts val="4901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2" marL="982440" indent="-323640">
              <a:spcBef>
                <a:spcPts val="4901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3" marL="1328760" indent="-323640">
              <a:spcBef>
                <a:spcPts val="4901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4" marL="1675440" indent="-323280">
              <a:spcBef>
                <a:spcPts val="4901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5" marL="1675440" indent="-323280">
              <a:spcBef>
                <a:spcPts val="4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6" marL="1675440" indent="-323280">
              <a:spcBef>
                <a:spcPts val="4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52400" cy="92235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6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5245200"/>
            <a:ext cx="10528560" cy="262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AEgir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7873560"/>
            <a:ext cx="10528560" cy="161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83a6"/>
                </a:solidFill>
                <a:latin typeface="Helvetica Neue Bold Condensed"/>
              </a:rPr>
              <a:t>Maintain your Drupal sites</a:t>
            </a:r>
            <a:endParaRPr b="0" lang="en-US" sz="4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4748040" y="2019240"/>
            <a:ext cx="34815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AEgir term: Task Queue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very action within AEgir is called a “task”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ach task is added to the queu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asks are run from the queue via a cron job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e cron job is scheduled to run during installatio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Tour of AEgir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reating a new site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13" name=""/>
          <p:cNvSpPr/>
          <p:nvPr/>
        </p:nvSpPr>
        <p:spPr>
          <a:xfrm>
            <a:off x="8801280" y="6413400"/>
            <a:ext cx="2666880" cy="24372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Marker Felt"/>
                <a:ea typeface="Marker Felt"/>
              </a:rPr>
              <a:t>only use lowercase url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Upgrading/Migrating a site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15" name=""/>
          <p:cNvSpPr/>
          <p:nvPr/>
        </p:nvSpPr>
        <p:spPr>
          <a:xfrm>
            <a:off x="8648640" y="6730920"/>
            <a:ext cx="2667240" cy="73044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Marker Felt"/>
                <a:ea typeface="Marker Felt"/>
              </a:rPr>
              <a:t>Once with a failure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Marker Felt"/>
                <a:ea typeface="Marker Felt"/>
              </a:rPr>
              <a:t>Once without a failure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Batch platform migration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n entire platform can be migrated at onc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creates a migrate task for each sit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Backup and Restore demo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Site cloning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 new site is created with its own ur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handles most link problem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djusts the files tabl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hanges the body and teaser nodes with link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How AEgir works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 system account is created for AEgir to run drush command via cron job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2180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This looks at the task queue and performs task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pache is configured to include configs within the AEgir directory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user account has privilege to reload Apach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 privileged database account is stored and used to create databases and site account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Real world problems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Installing is hard </a:t>
            </a:r>
            <a:r>
              <a:rPr b="0" i="1" lang="en-US" sz="3400" spc="-1" strike="noStrike">
                <a:solidFill>
                  <a:srgbClr val="646461"/>
                </a:solidFill>
                <a:latin typeface="Helvetica Neue"/>
              </a:rPr>
              <a:t>(but easier now with install script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dds large complexity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le permission issue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Libraries installed in sites/all/librarie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No module handling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 lot of stuff can go wrong!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Advanced usage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Use drush make to create a new platform (build) for each site (application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upport for multiple server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2180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ever to server site migration and cloning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ient roles allow users to administer their own site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48480" indent="-3484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Dave Hall (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</a:rPr>
              <a:t>http://davehall.com.au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/) has ~2100 sites running one AEgir instanc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The name: AEgir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461"/>
                </a:solidFill>
                <a:latin typeface="Helvetica Neue"/>
              </a:rPr>
              <a:t>“</a:t>
            </a:r>
            <a:r>
              <a:rPr b="0" lang="en-US" sz="4600" spc="-1" strike="noStrike">
                <a:solidFill>
                  <a:srgbClr val="646461"/>
                </a:solidFill>
                <a:latin typeface="Helvetica Neue"/>
              </a:rPr>
              <a:t>In Norse mythology, AEgir was the god of the oceans and if Drupal is a drop of water, AEgir is the deity of large bodies of water.”</a:t>
            </a:r>
            <a:endParaRPr b="0" lang="en-US" sz="4600" spc="-1" strike="noStrike">
              <a:solidFill>
                <a:srgbClr val="646461"/>
              </a:solidFill>
              <a:latin typeface="Helvetica Neue"/>
            </a:endParaRPr>
          </a:p>
          <a:p>
            <a:pPr lvl="4" marL="2666880" indent="0" algn="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groups.drupal.org  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Future development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upport for DN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Ubercart Intergration (uc_hosting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upport for other CM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46461"/>
                </a:solidFill>
                <a:latin typeface="Helvetica Neue"/>
              </a:rPr>
              <a:t>but not Wordpres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34960" y="3580920"/>
            <a:ext cx="10528560" cy="262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Questions?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AEgir History 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Originally a module called Hostmaster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First gained popularity at DrupalCon Paris (Sept 2009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Helvetica Neue"/>
              </a:rPr>
              <a:t>http://groups.drupal.org/aegir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#AEgir on IRC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What AEgir does for you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1120" y="2247840"/>
            <a:ext cx="10922040" cy="675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gives users a </a:t>
            </a:r>
            <a:r>
              <a:rPr b="0" i="1" lang="en-US" sz="3400" spc="-1" strike="noStrike">
                <a:solidFill>
                  <a:srgbClr val="646461"/>
                </a:solidFill>
                <a:latin typeface="Helvetica Neue"/>
              </a:rPr>
              <a:t>point and click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 interface to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reate sites quickly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Run cron for all sites it manage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Backup and restor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asily upgrade/migration sites (including 5 -&gt; 6)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Clone a sit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ll in the same place!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What AEgir is made of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Note: AEgir is neither a module nor a distribution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Group of modules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Hostmaster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Provision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lvl="1" marL="73656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Drush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A custom theme named Eldir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29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46461"/>
                </a:solidFill>
                <a:latin typeface="Helvetica Neue"/>
              </a:rPr>
              <a:t>Run on a specific server setup</a:t>
            </a:r>
            <a:endParaRPr b="0" lang="en-US" sz="31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Drush: (Very) Quick Tour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tands for </a:t>
            </a:r>
            <a:r>
              <a:rPr b="1" lang="en-US" sz="3400" spc="-1" strike="noStrike">
                <a:solidFill>
                  <a:srgbClr val="646461"/>
                </a:solidFill>
                <a:latin typeface="Helvetica Neue"/>
              </a:rPr>
              <a:t>DRU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pal </a:t>
            </a:r>
            <a:r>
              <a:rPr b="1" lang="en-US" sz="3400" spc="-1" strike="noStrike">
                <a:solidFill>
                  <a:srgbClr val="646461"/>
                </a:solidFill>
                <a:latin typeface="Helvetica Neue"/>
              </a:rPr>
              <a:t>SH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l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 command line shell interface to Drupal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llows an administrator to execute commands against a Drupal site without opening a browser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Multi-Site Drupal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“</a:t>
            </a: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Multi-site allows you to share a single Drupal installation (including core code, contributed modules, and themes) among several sites.” - d.o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ach site gets a directory in the sites/ directory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ach site has its own database, therefore its own content/users/settings/etc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Only upgrade the code once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Multi-Site Drupal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041480" y="2692440"/>
            <a:ext cx="10922040" cy="6184800"/>
            <a:chOff x="1041480" y="2692440"/>
            <a:chExt cx="10922040" cy="6184800"/>
          </a:xfrm>
        </p:grpSpPr>
        <p:sp>
          <p:nvSpPr>
            <p:cNvPr id="764" name=""/>
            <p:cNvSpPr/>
            <p:nvPr/>
          </p:nvSpPr>
          <p:spPr>
            <a:xfrm flipH="1">
              <a:off x="6459480" y="6748560"/>
              <a:ext cx="2340000" cy="94140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6462000" y="6742080"/>
              <a:ext cx="2305080" cy="168120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8766000" y="6815160"/>
              <a:ext cx="27000" cy="178272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1087280" y="6795720"/>
              <a:ext cx="7920" cy="180180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503400" y="6796080"/>
              <a:ext cx="4591080" cy="89208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6457320" y="6811560"/>
              <a:ext cx="4637160" cy="160812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462360" y="4114800"/>
              <a:ext cx="2274840" cy="120672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766360" y="3522600"/>
              <a:ext cx="27000" cy="180828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785440" y="4110120"/>
              <a:ext cx="2306520" cy="120816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62840" y="2692440"/>
              <a:ext cx="1625760" cy="1625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Drupal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9040" y="5207040"/>
              <a:ext cx="1625400" cy="1625760"/>
            </a:xfrm>
            <a:prstGeom prst="ellipse">
              <a:avLst/>
            </a:prstGeom>
            <a:solidFill>
              <a:srgbClr val="0b5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all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62840" y="5207040"/>
              <a:ext cx="1625760" cy="16257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SiteA.com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287000" y="5207040"/>
              <a:ext cx="1625760" cy="16257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SiteB.com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41480" y="4826160"/>
              <a:ext cx="10922040" cy="0"/>
            </a:xfrm>
            <a:prstGeom prst="line">
              <a:avLst/>
            </a:prstGeom>
            <a:ln w="50760">
              <a:solidFill>
                <a:srgbClr val="908f9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0640" y="5791320"/>
              <a:ext cx="125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4a7594"/>
                  </a:solidFill>
                  <a:latin typeface="Helvetica Neue Bold Condensed"/>
                  <a:ea typeface="Helvetica Neue Bold Condensed"/>
                </a:rPr>
                <a:t>/SITES/</a:t>
              </a:r>
              <a:endParaRPr b="0" lang="en-US" sz="30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2840" y="3289320"/>
              <a:ext cx="142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4a7594"/>
                  </a:solidFill>
                  <a:latin typeface="Helvetica Neue Bold Condensed"/>
                  <a:ea typeface="Helvetica Neue Bold Condensed"/>
                </a:rPr>
                <a:t>/</a:t>
              </a:r>
              <a:endParaRPr b="0" lang="en-US" sz="30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41480" y="7315200"/>
              <a:ext cx="10922040" cy="0"/>
            </a:xfrm>
            <a:prstGeom prst="line">
              <a:avLst/>
            </a:prstGeom>
            <a:ln w="50760">
              <a:solidFill>
                <a:srgbClr val="908f9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39040" y="7594560"/>
              <a:ext cx="1625400" cy="558720"/>
            </a:xfrm>
            <a:prstGeom prst="rect">
              <a:avLst/>
            </a:prstGeom>
            <a:solidFill>
              <a:srgbClr val="0b5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Modul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62840" y="7594560"/>
              <a:ext cx="1625760" cy="558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Modul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287000" y="7594560"/>
              <a:ext cx="1625760" cy="558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Modul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9040" y="8318520"/>
              <a:ext cx="1625400" cy="558720"/>
            </a:xfrm>
            <a:prstGeom prst="rect">
              <a:avLst/>
            </a:prstGeom>
            <a:solidFill>
              <a:srgbClr val="0b5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Them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62840" y="8318520"/>
              <a:ext cx="1625760" cy="558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Them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287000" y="8318520"/>
              <a:ext cx="1625760" cy="558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Themes/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 flipV="1">
            <a:off x="6857280" y="5859360"/>
            <a:ext cx="539640" cy="9511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9448920" y="5851080"/>
            <a:ext cx="0" cy="9572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11571120" y="5859360"/>
            <a:ext cx="540000" cy="9446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4a7594"/>
                </a:solidFill>
                <a:latin typeface="Helvetica Neue Light"/>
              </a:rPr>
              <a:t>AEgir term: Platform</a:t>
            </a:r>
            <a:endParaRPr b="0" lang="en-US" sz="7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41480" y="2768760"/>
            <a:ext cx="533376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Each instance of a Drupal core is a platform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AEgir manages multiple platform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marL="355680" indent="-3556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tes can be quickly moved between platforms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432200" y="2766960"/>
            <a:ext cx="4121280" cy="1480680"/>
            <a:chOff x="7432200" y="2766960"/>
            <a:chExt cx="4121280" cy="1480680"/>
          </a:xfrm>
        </p:grpSpPr>
        <p:sp>
          <p:nvSpPr>
            <p:cNvPr id="793" name=""/>
            <p:cNvSpPr/>
            <p:nvPr/>
          </p:nvSpPr>
          <p:spPr>
            <a:xfrm flipH="1">
              <a:off x="7432200" y="3683520"/>
              <a:ext cx="2048760" cy="54180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9473040" y="3688560"/>
              <a:ext cx="12960" cy="55908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503280" y="3686760"/>
              <a:ext cx="2050200" cy="53856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685360" y="2766960"/>
              <a:ext cx="1626120" cy="915120"/>
            </a:xfrm>
            <a:prstGeom prst="roundRect">
              <a:avLst>
                <a:gd name="adj" fmla="val 20833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AEgir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616800" y="4229280"/>
            <a:ext cx="1625400" cy="1625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latform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(Drupal 6.16)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"/>
          <p:cNvSpPr/>
          <p:nvPr/>
        </p:nvSpPr>
        <p:spPr>
          <a:xfrm>
            <a:off x="8686800" y="4229280"/>
            <a:ext cx="1625760" cy="1625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latform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(Drupal 6.17)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"/>
          <p:cNvSpPr/>
          <p:nvPr/>
        </p:nvSpPr>
        <p:spPr>
          <a:xfrm>
            <a:off x="10744200" y="4229280"/>
            <a:ext cx="1625760" cy="1625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latform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(Pressflow 6.17)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0" name=""/>
          <p:cNvSpPr/>
          <p:nvPr/>
        </p:nvSpPr>
        <p:spPr>
          <a:xfrm>
            <a:off x="6273720" y="6654960"/>
            <a:ext cx="1143000" cy="1143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te A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7429680" y="5856120"/>
            <a:ext cx="1153440" cy="1941480"/>
            <a:chOff x="7429680" y="5856120"/>
            <a:chExt cx="1153440" cy="1941480"/>
          </a:xfrm>
        </p:grpSpPr>
        <p:sp>
          <p:nvSpPr>
            <p:cNvPr id="802" name=""/>
            <p:cNvSpPr/>
            <p:nvPr/>
          </p:nvSpPr>
          <p:spPr>
            <a:xfrm flipH="1" flipV="1">
              <a:off x="7429680" y="5856120"/>
              <a:ext cx="569520" cy="94536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440480" y="6653880"/>
              <a:ext cx="1142640" cy="11437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Site B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8864640" y="6654960"/>
            <a:ext cx="1143000" cy="1143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te C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"/>
          <p:cNvSpPr/>
          <p:nvPr/>
        </p:nvSpPr>
        <p:spPr>
          <a:xfrm>
            <a:off x="11557080" y="6654960"/>
            <a:ext cx="1143000" cy="1143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te D</a:t>
            </a: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0337760" y="5843520"/>
            <a:ext cx="1143000" cy="1941480"/>
            <a:chOff x="10337760" y="5843520"/>
            <a:chExt cx="1143000" cy="1941480"/>
          </a:xfrm>
        </p:grpSpPr>
        <p:sp>
          <p:nvSpPr>
            <p:cNvPr id="807" name=""/>
            <p:cNvSpPr/>
            <p:nvPr/>
          </p:nvSpPr>
          <p:spPr>
            <a:xfrm flipV="1">
              <a:off x="10891080" y="5843520"/>
              <a:ext cx="569880" cy="952560"/>
            </a:xfrm>
            <a:prstGeom prst="line">
              <a:avLst/>
            </a:prstGeom>
            <a:ln w="2556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337760" y="6642000"/>
              <a:ext cx="1143000" cy="11430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Site B</a:t>
              </a: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